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354612"/>
        <c:axId val="92280520"/>
      </c:barChart>
      <c:catAx>
        <c:axId val="373546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80520"/>
        <c:crosses val="autoZero"/>
        <c:auto val="1"/>
        <c:lblAlgn val="ctr"/>
        <c:lblOffset val="100"/>
        <c:noMultiLvlLbl val="0"/>
      </c:catAx>
      <c:valAx>
        <c:axId val="922805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546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330-BDC8-4F26-A83C-872F6A4E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F45-86E7-470D-8215-99681B6E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88D-2E15-498F-9CAB-79BC8503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0AD-D812-49FD-B302-792963898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6432-98B5-4D22-A849-E24F1C73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9D85-E3E3-45AE-B7C0-D6401E60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6315-0326-4F84-AB68-A0486529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0ED7-89D0-496E-80DA-E008E88E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77A-812C-4565-9066-82C4EE70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461E-4452-4963-8F22-1403708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52D-CF4A-44DC-B49C-0AE7262F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4819-C32D-4D55-8039-A59F1547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F021D-7BEC-4B65-AB95-AD0014363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