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45739"/>
        <c:axId val="45550461"/>
      </c:barChart>
      <c:catAx>
        <c:axId val="85745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50461"/>
        <c:crosses val="autoZero"/>
        <c:auto val="1"/>
        <c:lblAlgn val="ctr"/>
        <c:lblOffset val="100"/>
        <c:noMultiLvlLbl val="0"/>
      </c:catAx>
      <c:valAx>
        <c:axId val="45550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45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C4C-B8BE-4B95-BBB9-7106E386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984-83C5-4211-823C-7C28C55B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B3A-6624-4F75-B0D1-5251A8BE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E0E-F0B3-4477-B782-E84B5DFD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EFB-FE5B-48DA-A1D8-F748B3E1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8AD-856C-488E-9869-46EE47E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DB4-DA41-4602-95B2-356657D5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08A-A740-4C78-A457-1156211A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75A-576A-436E-9391-06B523D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6F5-DAE6-4AC5-8F21-825E8F1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167-7AF2-4A2C-96B1-35FB649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CDC-322D-4A5F-B8BF-6C4BF1A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5751E-1344-4BF9-A8DB-07C8EF539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