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375379"/>
        <c:axId val="37417893"/>
      </c:barChart>
      <c:catAx>
        <c:axId val="113753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17893"/>
        <c:crosses val="autoZero"/>
        <c:auto val="1"/>
        <c:lblAlgn val="ctr"/>
        <c:lblOffset val="100"/>
        <c:noMultiLvlLbl val="0"/>
      </c:catAx>
      <c:valAx>
        <c:axId val="374178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753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19FD-2FCB-49DD-8863-D58FBE75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543A-6943-4A6B-B4BE-BC82CDC6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37B8-4B10-4FAA-A207-FB59BB49B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5816-DE2B-4CCF-AF4D-71D4915C9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B819-3BEA-4B4D-8C0C-F84FB844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FFC7-E7D6-4493-A5CB-2181C264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8AD7-CEF3-479F-AC3C-4290994E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DF1F-C142-47A6-8647-F4DB91A7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DCDC-EDED-437B-9F83-99449DA7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FE4A-F374-4944-B487-C096B234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F822-302B-4773-80E1-62F2863E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AC1D-8009-4FA9-8B35-817B8153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E3832-C910-4797-93E5-DE257E5BC1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