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61204"/>
        <c:axId val="67820335"/>
      </c:barChart>
      <c:catAx>
        <c:axId val="37861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20335"/>
        <c:crosses val="autoZero"/>
        <c:auto val="1"/>
        <c:lblAlgn val="ctr"/>
        <c:lblOffset val="100"/>
        <c:noMultiLvlLbl val="0"/>
      </c:catAx>
      <c:valAx>
        <c:axId val="67820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61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C2D-D871-45B7-813E-6736218E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D05-330F-4DC0-9B07-0FB4156C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91E-A691-4814-8EAE-600DC8C5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BCD-6B1A-487C-99B7-85AEED7A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113-65DF-4F97-BA52-9BB28D65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5E5-CC7F-4A6E-AADD-F417570F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8F8-A0D1-4597-A64B-E9C246D4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B6D-E90F-4295-A4BA-BE7270DD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156-795B-464B-9CBE-93023BAB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FB6-4602-46CF-9DAB-96879881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BE1-98A9-4ED6-8370-A1ED9769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15F-FD8C-428C-9BD3-CDD1B456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B60AE-B450-4EB1-89C1-BE8F33ECDD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