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418826"/>
        <c:axId val="10241118"/>
      </c:barChart>
      <c:catAx>
        <c:axId val="674188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241118"/>
        <c:crosses val="autoZero"/>
        <c:auto val="1"/>
        <c:lblAlgn val="ctr"/>
        <c:lblOffset val="100"/>
        <c:noMultiLvlLbl val="0"/>
      </c:catAx>
      <c:valAx>
        <c:axId val="102411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4188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9AAD-3E72-44F4-A4F6-9286B2566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945B-D73C-4B57-A6EE-FDC197258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5D18-BF37-4A9E-80CA-DE95444FF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D293-C866-4C31-A249-59C9A248D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F600-7E62-488B-80D5-C66FDA71E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E798-9915-475D-A579-241009E9F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1BD5-3648-4116-AF0B-309EADEFA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0CCB-3CB9-4696-A829-19F07EE44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4412-8603-43C7-B4A3-0B8F2AA1E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E2E7-A8EC-47D3-95D3-F52DB943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9A2E-DC1E-44B8-AD66-F570505B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1DB6-F023-40D8-8062-0ACDC3B1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AB3159-3A67-4C9B-BA3B-3D45294588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