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29153"/>
        <c:axId val="17066841"/>
      </c:barChart>
      <c:catAx>
        <c:axId val="16629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66841"/>
        <c:crosses val="autoZero"/>
        <c:auto val="1"/>
        <c:lblAlgn val="ctr"/>
        <c:lblOffset val="100"/>
        <c:noMultiLvlLbl val="0"/>
      </c:catAx>
      <c:valAx>
        <c:axId val="17066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29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DB8-082B-476E-8189-7714B2F1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832-AE6F-4549-8840-1D59033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0E0-E018-466C-B86E-2DF3B94A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F55-4BAC-4319-B718-BBCEC994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B7F-74E7-4660-A878-9426FDB8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598-226A-4A99-A139-0CBD6F7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369-406E-42EB-849B-29243B0D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943-37C2-4244-B7CE-A659BA33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A2D-FE78-451C-B69D-5BFEE956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5F5-F0A6-48A4-8933-BC6C0F44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3B2-5161-4AC6-9E93-7B414DB8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0CE-854A-4872-9284-C4072FA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6591F-13F0-4E3B-8DBE-F256F88051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