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3382"/>
        <c:axId val="96536340"/>
      </c:barChart>
      <c:catAx>
        <c:axId val="4443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36340"/>
        <c:crosses val="autoZero"/>
        <c:auto val="1"/>
        <c:lblAlgn val="ctr"/>
        <c:lblOffset val="100"/>
        <c:noMultiLvlLbl val="0"/>
      </c:catAx>
      <c:valAx>
        <c:axId val="96536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3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F2D-CE82-4A6F-B3C7-728254B4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967-486F-4835-BBF3-1B5E9BA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482-6A59-4B05-BBA3-43AC368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E9C-E07F-4628-9559-157E8E9B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9CC-B08E-486E-81D5-AD90A2B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E8F-8E57-42F2-958E-F79638C5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859-8477-4CFA-93CB-7E75A96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7DB-97D4-4E05-B92A-84860DB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849-D949-4FA1-8838-AEF578A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7C5-09E6-46D4-AE3B-AEB8BDA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D56-8388-4099-818F-3197430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D3B-270D-4BFD-8CC9-1D6D254D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F7707-70EC-4E08-88F1-91AF74310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