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4367"/>
        <c:axId val="28346763"/>
      </c:barChart>
      <c:catAx>
        <c:axId val="8124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46763"/>
        <c:crosses val="autoZero"/>
        <c:auto val="1"/>
        <c:lblAlgn val="ctr"/>
        <c:lblOffset val="100"/>
        <c:noMultiLvlLbl val="0"/>
      </c:catAx>
      <c:valAx>
        <c:axId val="28346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4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252D-2075-49BB-BE34-467B00F4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A5C7-D7A6-4E74-97B4-2E6081EE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835D-F4E7-45FB-B475-15ECEC7C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BFA-6B59-4AB1-A4B4-6166FE2A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A8EE-354F-4AF6-BD4A-0A27AF13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A89E-D8FE-4400-BC75-CD548876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EA5F-FF76-4EC5-B826-1FD4B82E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BBCF-5E04-4BB5-A20D-E0C413D0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2B95-01AE-4C6D-9480-3B4E9847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29B6-C523-4E25-B0B0-81C87FF5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8AA4-607B-4408-9FF9-1F84BB04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C2A8-2108-40C5-A53D-FD282E90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CB6C2-9EA8-4193-93F5-3144359C56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