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53620"/>
        <c:axId val="74017166"/>
      </c:barChart>
      <c:catAx>
        <c:axId val="84453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7166"/>
        <c:crosses val="autoZero"/>
        <c:auto val="1"/>
        <c:lblAlgn val="ctr"/>
        <c:lblOffset val="100"/>
        <c:noMultiLvlLbl val="0"/>
      </c:catAx>
      <c:valAx>
        <c:axId val="74017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3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C96-2243-4CE4-9BC2-4F04D634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214-41BE-4BA1-9EC9-C60F9DD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AF0-C6E0-48AC-B360-BF77F2C8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2BE-5BC6-4676-A3DD-4FEB1F09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70F-E3CD-44C5-9927-2067EA52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152-EA0F-4B15-804A-927F05C8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3D8-C9E5-4609-8C97-B3BA55DB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4E6-A66F-47A9-AD5C-0F6B3D5F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F96-50E7-4306-9811-1D53CBC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3F7-DF61-4057-9BDD-56F23C3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617-3CF9-47DF-81D9-56E7A81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27E-947C-4D1C-8BEC-13CC23EA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9F2BE-479C-4D6F-8A09-96C09E6454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