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59605"/>
        <c:axId val="17752052"/>
      </c:barChart>
      <c:catAx>
        <c:axId val="59559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52052"/>
        <c:crosses val="autoZero"/>
        <c:auto val="1"/>
        <c:lblAlgn val="ctr"/>
        <c:lblOffset val="100"/>
        <c:noMultiLvlLbl val="0"/>
      </c:catAx>
      <c:valAx>
        <c:axId val="17752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59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81E-9577-4652-A389-B0C19F7A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DD0-3DCC-45FD-B544-1F8F7680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738-5059-4C11-8E04-A0332EBE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A50-66B5-4B48-834C-A40E2F1A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584-4ED5-4E1A-A198-15A4388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9CE-FACB-40A5-8F22-B7CC6780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4B6-E400-46D1-9BC4-9E90557B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547-C0EC-456C-BC8A-29707C52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A81-CE3F-4D48-AF48-13167C8A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142-DB3F-4474-95FD-7F1F1EF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2D3-804D-4014-9AB9-515CC2C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249-AC4A-4BA5-BD9E-1A67765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0C1A8-CB0F-4C15-AC0F-97E42862A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