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68691"/>
        <c:axId val="19877313"/>
      </c:barChart>
      <c:catAx>
        <c:axId val="53468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77313"/>
        <c:crosses val="autoZero"/>
        <c:auto val="1"/>
        <c:lblAlgn val="ctr"/>
        <c:lblOffset val="100"/>
        <c:noMultiLvlLbl val="0"/>
      </c:catAx>
      <c:valAx>
        <c:axId val="19877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68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C64-EC4E-4051-90D3-77254477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985-11A8-4069-B79C-09B474A3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A03-6FB1-43B9-B6ED-5514F5B3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8BB-4535-4D7B-A82E-63DC6284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3CB-DC93-4B34-B136-5D6713EA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B68-F697-4E7C-850F-A9C712D9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CC3-0FF5-4A0E-A5F4-DA172B85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25C-F921-4DE2-A20D-4EA20E37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ECB-ED8A-4547-8D2A-E3A8E47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1D6-198F-438F-9266-7AD8C739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2F9-4B88-4DBD-8982-3F58DF7B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163-18CB-4F33-A396-EBC68C3B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04D7B-9848-4382-A9DF-3A139EB90B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