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43397"/>
        <c:axId val="53967739"/>
      </c:barChart>
      <c:catAx>
        <c:axId val="86343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67739"/>
        <c:crosses val="autoZero"/>
        <c:auto val="1"/>
        <c:lblAlgn val="ctr"/>
        <c:lblOffset val="100"/>
        <c:noMultiLvlLbl val="0"/>
      </c:catAx>
      <c:valAx>
        <c:axId val="53967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43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E0A-E654-4A8F-A781-2E522E8B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BD6-C3AA-4E5A-AE70-7B92A3E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44A-0D2C-46B6-B831-55AE597E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013-8661-4F6D-BF73-2A262738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4F87-1175-46ED-A4FF-7E0352F9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3F2-0C35-4A03-BA44-3A5D5C01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A3F-24B0-49E8-BB74-766906CE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621-2E02-45CB-8E2B-33E33CAB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41A-6511-43E6-A890-8DC0AD0F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8E3-B1F5-489D-8E77-90DEA7D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4BB7-DCB1-4B28-81A0-0B3EA191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585-D052-45AB-9BA1-E81FFB79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2A4EF-39F6-413C-B842-F931D3776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