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558081"/>
        <c:axId val="46619773"/>
      </c:barChart>
      <c:catAx>
        <c:axId val="77558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19773"/>
        <c:crosses val="autoZero"/>
        <c:auto val="1"/>
        <c:lblAlgn val="ctr"/>
        <c:lblOffset val="100"/>
        <c:noMultiLvlLbl val="0"/>
      </c:catAx>
      <c:valAx>
        <c:axId val="46619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58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FF1-FCD8-4C4B-AA16-F85D4A9A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53B-93B2-4091-A074-83161146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EE46-BBFC-4649-9379-637FE213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2DEC-56FF-48E3-8A5B-EAB68B2F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F71-050A-42B1-9CA6-081FD733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8662-0480-48BA-93EE-CAC0CC4F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AD5-E39A-4859-B879-B660878B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6A29-FD8E-4E98-A32A-2B32FD21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5DD-CF28-4B24-B6F7-5D6B6C05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172-8A20-4F92-A98F-B588F2DB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9F98-314E-48EE-BD5A-2F89320F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B5D1-DFF8-420F-82DE-0FC7836A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3372D-C6E4-40E7-9ECF-291E57B705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