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31982"/>
        <c:axId val="71373681"/>
      </c:barChart>
      <c:catAx>
        <c:axId val="51231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73681"/>
        <c:crosses val="autoZero"/>
        <c:auto val="1"/>
        <c:lblAlgn val="ctr"/>
        <c:lblOffset val="100"/>
        <c:noMultiLvlLbl val="0"/>
      </c:catAx>
      <c:valAx>
        <c:axId val="71373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31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974-E88C-4F8D-A4EB-D71CDA01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208-9895-4BEF-A70C-922523AD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288-BFB3-474C-A03A-E5B91670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B51-8654-4ADD-84FB-1D62F11B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B75-5C66-4E18-B335-08038152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80F-EA0F-4F6E-9378-DB75C10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6F6-B91D-4B1F-8771-9D494A1E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53D-5A23-4C58-AB3A-F58149EE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638-74F9-48EF-8403-A00DC4F0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440-538B-4224-95F7-0DC1D47B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508-6D3B-4BA6-B3F0-D31A30C8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5BA-3B9F-48CE-9AFF-15AE907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97043-D194-4A64-B1B4-284C9F4483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